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112-CF68-44AE-93B9-9C9BE6BD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42B-5E69-4B4F-84CB-64004483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737-10E1-469B-9448-098C5969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09D-1DB1-4686-BBF1-F78F0B87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469-FA18-4EBD-A407-8E25AF4D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151-23DA-47B7-82E5-567BD893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3BB-5F3D-46A3-8250-1A8E6A00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C2C-1336-4A2E-9094-42C245D3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7B2-D918-471A-823A-4B0BCC44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5070-1C06-4111-9C7C-B265DFC1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D19-2530-4774-B8C1-96F531E6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9DC-7677-4797-96DA-45765075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EE5F-8741-46D5-A495-5A1D09AA0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zus.gov.rs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11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ЛИДНОСТ, КЛИНИЧКИ ЗНАЧАЈ И ПРИМЕНЉИВОСТ СМЕРНИЦА (ВОДИЧА)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ДОБРЕ ПРАКС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препоруке у смерницама валидн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све могућности при одлучивању и сви могући исходи узети у обзи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докази за сваку одлуку идентификова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валидирани и комбиновани на разуман и јасан нач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је оцена пацијената за последице појединих одлу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укључујући доброби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ризике и трошков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узета у обзи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смернице отпорне на клинички могуће варијације у пракс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валидне смернице клинички корисн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значајн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мернице дају могућност за значајно побољшање квалитета пракс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 ли постоје велике варијације у постојећој пракс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смернице садрже нове доказе који би могли имати важан утицај на поступање са пацијенто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ће смернице утицати на поступак са врло великим бројем пацијена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или са тешким пацијенти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или са пацијентима чије лечење је веома скуп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тако да мале промене у пракси имају велики утицај на исход третмана или његову це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е смернице могу применити у нашој пракс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Какве препреке постоје за примену смерниц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се могу превазић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ће наше колеге сарађив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постоје образов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административ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и економски услови потребни за примену смерниц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је смернице издало тело са стручним ауторитето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је неко од угледних колега већ применио смерниц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су информације из свих извора конзистентн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постоји могућност индивидуалних дискусија о примени смерница са здравственим власти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је формат смерница погодан за употреб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се смернице могу применити у циљној групи клиничар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без потребе за посебном сарадњом спољ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не постоји сукоб са политиком здравственог фонд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са политиком здравствених вла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са очекивањима пацијента и са очекивањима заједниц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Националне смернице у Србиј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ступне су на веб страници Агенције за акредитацију здравствених устано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azus.gov.rs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kett, David L. et al.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idence-Based Medicine: How to Practice and Teach EBM. 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ed. New York: Churchill Livingstone,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aus SE, Richardson WS, Glasziou P, Haynes RB. Evidence-based Medicine.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dition, Elsevier, 200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9:59Z</dcterms:modified>
  <cp:revision>57</cp:revision>
  <dc:subject/>
  <dc:title>Slide 1</dc:title>
</cp:coreProperties>
</file>